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501-A4FF-4101-8DD1-850F6A9F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FAA-D31F-4DD7-A923-A10BB2DE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015-E0E0-481F-AAAE-F82AE88F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0F9-7696-4DA9-A330-AE74F41D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22B-727A-4747-B3F5-CDE553DA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56A-EA7A-44E6-A19C-3AB94A8F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B53-C17C-418F-B1DA-5EBB852B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8C0-A226-4527-8DC4-915C4506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A2B-D54A-45A4-BE9D-81E74AE6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428-98B5-410E-AF78-5C3D5598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03A-640D-419C-9F4E-CAC0DE74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65C-9B03-478E-99AA-11DB76B2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2B89-B002-4B09-B91D-088B0C675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entchemistry.com/links/Matter/HeatingCurve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ting and Cooling Curves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2280" y="2286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Sublimation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- solid to </a:t>
            </a:r>
            <a:r>
              <a:rPr b="0" lang="en-US" sz="3600" spc="-1" strike="noStrike">
                <a:solidFill>
                  <a:srgbClr val="008000"/>
                </a:solidFill>
                <a:latin typeface="Arial Rounded MT Bold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a.  Dry ice - carbon diox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b.  Iod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.  Fr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*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During phase changes there is no change of temperatur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phase change graph"/>
          <p:cNvPicPr/>
          <p:nvPr/>
        </p:nvPicPr>
        <p:blipFill>
          <a:blip r:embed="rId1"/>
          <a:stretch/>
        </p:blipFill>
        <p:spPr>
          <a:xfrm>
            <a:off x="3124080" y="4495680"/>
            <a:ext cx="516276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Picture 4" descr="sticky important graph"/>
          <p:cNvPicPr/>
          <p:nvPr/>
        </p:nvPicPr>
        <p:blipFill>
          <a:blip r:embed="rId2"/>
          <a:stretch/>
        </p:blipFill>
        <p:spPr>
          <a:xfrm>
            <a:off x="0" y="4514760"/>
            <a:ext cx="2990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3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3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ing Curve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cdli.ca/courses/chem3202/unit03_org02_ilo03/cooling_curve.jpg"/>
          <p:cNvPicPr/>
          <p:nvPr/>
        </p:nvPicPr>
        <p:blipFill>
          <a:blip r:embed="rId2"/>
          <a:stretch/>
        </p:blipFill>
        <p:spPr>
          <a:xfrm>
            <a:off x="533520" y="2438280"/>
            <a:ext cx="4114800" cy="335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docbrown.info/page03/3_52states/Image86.gif"/>
          <p:cNvPicPr/>
          <p:nvPr/>
        </p:nvPicPr>
        <p:blipFill>
          <a:blip r:embed="rId3"/>
          <a:stretch/>
        </p:blipFill>
        <p:spPr>
          <a:xfrm>
            <a:off x="5099040" y="2133720"/>
            <a:ext cx="3740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www.scottslumber.com/uploads/images/Condensation/Glass%20Condensation2.jpg"/>
          <p:cNvPicPr/>
          <p:nvPr/>
        </p:nvPicPr>
        <p:blipFill>
          <a:blip r:embed="rId1"/>
          <a:stretch/>
        </p:blipFill>
        <p:spPr>
          <a:xfrm>
            <a:off x="3352680" y="1828800"/>
            <a:ext cx="2857680" cy="4276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152280" y="152280"/>
            <a:ext cx="883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Condensation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- </a:t>
            </a:r>
            <a:r>
              <a:rPr b="0" lang="en-US" sz="3600" spc="-1" strike="noStrike">
                <a:solidFill>
                  <a:srgbClr val="008000"/>
                </a:solidFill>
                <a:latin typeface="Arial Rounded MT Bold"/>
              </a:rPr>
              <a:t>ga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to </a:t>
            </a:r>
            <a:r>
              <a:rPr b="0" lang="en-US" sz="3600" spc="-1" strike="noStrike">
                <a:solidFill>
                  <a:srgbClr val="ccccff"/>
                </a:solidFill>
                <a:latin typeface="Arial Rounded MT Bold"/>
              </a:rPr>
              <a:t>liq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.  Particles lose kinetic energy, slow down, and come closer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80880" y="3048120"/>
            <a:ext cx="876312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. IF’s become strong enough to make particles merely rotate around each oth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.  The energy they lose to turn into a liquid is the </a:t>
            </a:r>
            <a:r>
              <a:rPr b="0" i="1" lang="en-US" sz="3200" spc="-1" strike="noStrike">
                <a:solidFill>
                  <a:srgbClr val="ff0000"/>
                </a:solidFill>
                <a:latin typeface="Arial Rounded MT Bold"/>
              </a:rPr>
              <a:t>heat of vaporization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ubstance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releasing energy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to the surroundings (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exothermic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3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8763120" cy="64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Freezing 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Arial Rounded MT Bold"/>
              </a:rPr>
              <a:t>liquid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to solid-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.  Particles lose kinetic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d slow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.  Substance releases energy to surrou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(exotherm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.  IF’s b/w particles become stronger than the particles’ motion, so the particles begin merely vibrating in place to form a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.  The amount of heat the particles must lose to turn into a solid is called the </a:t>
            </a:r>
            <a:r>
              <a:rPr b="0" i="1" lang="en-US" sz="2800" spc="-1" strike="noStrike">
                <a:solidFill>
                  <a:srgbClr val="ff0000"/>
                </a:solidFill>
                <a:latin typeface="Arial Rounded MT Bold"/>
              </a:rPr>
              <a:t>heat of fusio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mr freeze"/>
          <p:cNvPicPr/>
          <p:nvPr/>
        </p:nvPicPr>
        <p:blipFill>
          <a:blip r:embed="rId1"/>
          <a:stretch/>
        </p:blipFill>
        <p:spPr>
          <a:xfrm>
            <a:off x="6629400" y="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3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3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3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3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3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scan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Info about the Heating and Cooling Curve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ating curve of water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emperature is a measure of "Average Kinetic Energy", any change in temperature is a change in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= ↑ 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= ↓ 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total energy absorbed in the heating curve is equal to the total energy released in the cooling curve of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pecial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eratu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 not chang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ing a phas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graphs have 2 main plateau areas where phase changes are occur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ting/freezing 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occur at same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iling/condensation 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occur at same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28440"/>
            <a:ext cx="9144000" cy="63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hanges in State (phase chang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Melting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- solid to </a:t>
            </a:r>
            <a:r>
              <a:rPr b="0" lang="en-US" sz="3200" spc="-1" strike="noStrike">
                <a:solidFill>
                  <a:srgbClr val="3333cc"/>
                </a:solidFill>
                <a:latin typeface="Arial Rounded MT Bold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.  Substance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absorbing energy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from     the surrounding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endothermic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. Particles get more kinetic energy and begin rotating around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.  The IF’s begin to weaken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intermolecular forces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) to then form a liq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.  The energy required to melt a solid is called the </a:t>
            </a:r>
            <a:r>
              <a:rPr b="0" i="1" lang="en-US" sz="3200" spc="-1" strike="noStrike">
                <a:solidFill>
                  <a:srgbClr val="cc0000"/>
                </a:solidFill>
                <a:latin typeface="Arial Rounded MT Bold"/>
              </a:rPr>
              <a:t>heat of fusion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ice cubes"/>
          <p:cNvPicPr/>
          <p:nvPr/>
        </p:nvPicPr>
        <p:blipFill>
          <a:blip r:embed="rId1"/>
          <a:stretch/>
        </p:blipFill>
        <p:spPr>
          <a:xfrm>
            <a:off x="7086600" y="609480"/>
            <a:ext cx="153684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3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scan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04920" y="0"/>
            <a:ext cx="8839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Vaporization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- </a:t>
            </a:r>
            <a:r>
              <a:rPr b="0" lang="en-US" sz="3600" spc="-1" strike="noStrike">
                <a:solidFill>
                  <a:srgbClr val="3333cc"/>
                </a:solidFill>
                <a:latin typeface="Arial Rounded MT Bold"/>
              </a:rPr>
              <a:t>liquid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to </a:t>
            </a:r>
            <a:r>
              <a:rPr b="0" lang="en-US" sz="3600" spc="-1" strike="noStrike">
                <a:solidFill>
                  <a:srgbClr val="008000"/>
                </a:solidFill>
                <a:latin typeface="Arial Rounded MT Bold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a. 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1)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Boiling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- rapid; gas bubbles                 are produced through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2)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Evaporation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- slow; occurs at                  the surf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b.  Liquid particles gain enough kinetic energy to overcome IF’s between the particles and they begin translational motion; this energy is called the </a:t>
            </a:r>
            <a:r>
              <a:rPr b="0" i="1" lang="en-US" sz="3600" spc="-1" strike="noStrike">
                <a:solidFill>
                  <a:srgbClr val="cc0000"/>
                </a:solidFill>
                <a:latin typeface="Arial Rounded MT Bold"/>
              </a:rPr>
              <a:t>heat of vaporization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boiling water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scan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04920"/>
            <a:ext cx="86104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vaporation is a </a:t>
            </a:r>
            <a:r>
              <a:rPr b="0" lang="en-US" sz="3600" spc="-1" strike="noStrike">
                <a:solidFill>
                  <a:srgbClr val="3333cc"/>
                </a:solidFill>
                <a:latin typeface="Arial Rounded MT Bold"/>
              </a:rPr>
              <a:t>cooling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pro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.  Particles in a liquid gain kinetic ener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.  They leave as gas particles (taking the energy away with them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.  This leaves less energy in the liquid, therefore cooling down what is lef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23:46:24Z</dcterms:created>
  <dc:creator>Michael Bennett</dc:creator>
  <dc:description/>
  <dc:language>en-US</dc:language>
  <cp:lastModifiedBy>jluckey</cp:lastModifiedBy>
  <dcterms:modified xsi:type="dcterms:W3CDTF">2013-05-20T19:37:22Z</dcterms:modified>
  <cp:revision>15</cp:revision>
  <dc:subject/>
  <dc:title>No Slide Title</dc:title>
</cp:coreProperties>
</file>